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E7F8-2B86-4C1C-8613-2E79845A2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F5A9-1C75-4999-9602-6B54951B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CD5D-FAD3-4444-A50D-31B91AB9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08C0-999C-457F-A043-D4AC366B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325F-2E59-47A4-A292-931F8E38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FC9D-F458-437D-8396-FE436F93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C2B0-6C1F-41AA-B7B8-312B13A8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5691-818B-421B-8B95-097D0404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F71E-0779-4FFE-9506-43B55187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6275-4216-4943-ACDC-C7E37CB4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E978-03CA-4883-8541-0AADE638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E04C-FC35-4741-87E6-782FDAF0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148B-DCC9-4126-9595-56E40075A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Kristen ITC"/>
              </a:rPr>
              <a:t>Order of the plane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43200" y="5805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Sarah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651640" y="2349360"/>
            <a:ext cx="2914560" cy="2454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Comic Sans MS"/>
              </a:rPr>
              <a:t>Pluto- Pi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12000" y="2492280"/>
            <a:ext cx="2233440" cy="2089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3059280" y="0"/>
            <a:ext cx="374472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Kristen ITC"/>
              </a:rPr>
              <a:t>Pluto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Kristen ITC"/>
              <a:ea typeface="Kristen ITC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3178080"/>
            <a:ext cx="4608360" cy="37681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Pluto is 5.8 billion kilometres from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re are 3 satellites on Plu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wo of there names are Charon and Nix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Pluto is the smallest pla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It was renamed a dwarf planet a little while a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40360" y="5734080"/>
            <a:ext cx="1008000" cy="863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16000" y="836640"/>
            <a:ext cx="1008000" cy="863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812000" y="5589720"/>
            <a:ext cx="1008000" cy="863640"/>
          </a:xfrm>
          <a:prstGeom prst="star5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451640" y="620640"/>
            <a:ext cx="1008000" cy="863640"/>
          </a:xfrm>
          <a:prstGeom prst="star5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332000" y="621648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omic Sans MS"/>
              </a:rPr>
              <a:t>i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0"/>
            <a:ext cx="111600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M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V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M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J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U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47640" y="69228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omic Sans MS"/>
              </a:rPr>
              <a:t>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155736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omic Sans MS"/>
              </a:rPr>
              <a:t>xci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19280" y="2276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omic Sans MS"/>
              </a:rPr>
              <a:t>on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03280" y="314172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omic Sans MS"/>
              </a:rPr>
              <a:t>ugg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393372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omic Sans MS"/>
              </a:rPr>
              <a:t>andwi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47640" y="472428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47640" y="558972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Comic Sans MS"/>
              </a:rPr>
              <a:t>augh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64000" y="5172120"/>
            <a:ext cx="4676760" cy="1685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The End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12000" y="2060640"/>
            <a:ext cx="2881080" cy="2454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Comic Sans MS"/>
              </a:rPr>
              <a:t>Mercury- 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340000" y="260280"/>
            <a:ext cx="35780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ercur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300720" y="2133720"/>
            <a:ext cx="2314800" cy="2190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3284640"/>
            <a:ext cx="4319640" cy="33508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Mercury is the closest planet to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Mercury is 58,000,000 kilometres from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1 Mercury day is 58 earth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The average surface temperature in 460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º Celsi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80000" y="5589720"/>
            <a:ext cx="1008000" cy="863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96360" y="5589720"/>
            <a:ext cx="1008000" cy="863640"/>
          </a:xfrm>
          <a:prstGeom prst="star5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77080" y="476280"/>
            <a:ext cx="1008000" cy="863640"/>
          </a:xfrm>
          <a:prstGeom prst="star5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404640"/>
            <a:ext cx="1008000" cy="863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12000" y="2060640"/>
            <a:ext cx="2881080" cy="2871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ff"/>
                </a:solidFill>
                <a:latin typeface="Kristen ITC"/>
              </a:rPr>
              <a:t>Venu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Venus- 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372360" y="2421000"/>
            <a:ext cx="2255760" cy="2232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8360" y="2924280"/>
            <a:ext cx="4319640" cy="362520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re are no satellites on Ven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Venus is the hottest planet in the Solar System because the clouds trap the heat on the pla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1 year in Venus is 224.7 earth ye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It 107 million kilometres from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35640" y="5516640"/>
            <a:ext cx="1008000" cy="863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43640" y="549360"/>
            <a:ext cx="1008000" cy="863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08720" y="5516640"/>
            <a:ext cx="1008360" cy="863640"/>
          </a:xfrm>
          <a:prstGeom prst="star5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32000" y="333360"/>
            <a:ext cx="1008000" cy="863640"/>
          </a:xfrm>
          <a:prstGeom prst="star5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796000" y="2276640"/>
            <a:ext cx="2987640" cy="2871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ff"/>
                </a:solidFill>
                <a:latin typeface="Comic Sans MS"/>
              </a:rPr>
              <a:t>Earth - exc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979640" y="189000"/>
            <a:ext cx="5184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arth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56360" y="2637000"/>
            <a:ext cx="2284200" cy="2284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84720" y="5013360"/>
            <a:ext cx="24480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mic Sans MS"/>
              </a:rPr>
              <a:t>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3141720"/>
            <a:ext cx="4319640" cy="3350880"/>
          </a:xfrm>
          <a:prstGeom prst="rect">
            <a:avLst/>
          </a:prstGeom>
          <a:noFill/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Earth is the only planet fit for human lif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Earth is 150 millions kilometres from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The average temperature on Earth is 15.2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º Celsi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 word “Earth” means 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404640"/>
            <a:ext cx="1008000" cy="863640"/>
          </a:xfrm>
          <a:prstGeom prst="star5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5805360"/>
            <a:ext cx="1008360" cy="863640"/>
          </a:xfrm>
          <a:prstGeom prst="star5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08720" y="5805360"/>
            <a:ext cx="1008360" cy="863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812000" y="476280"/>
            <a:ext cx="1008000" cy="863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12000" y="2205000"/>
            <a:ext cx="2665440" cy="3288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Mars- monk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195640" y="333360"/>
            <a:ext cx="43941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r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227640" y="2565360"/>
            <a:ext cx="2273400" cy="2519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9640" y="2708280"/>
            <a:ext cx="4319640" cy="376812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One year in Mars is 687 Earth d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In Mars the average surface temperature is -87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º</a:t>
            </a: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 Celsi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Mars is made of mainly Carbon diox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Mars has invisible clou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Inside Mars there is a thin layer of frozen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80360" y="907920"/>
            <a:ext cx="1008000" cy="863640"/>
          </a:xfrm>
          <a:prstGeom prst="star5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64000" y="5805360"/>
            <a:ext cx="1008360" cy="863640"/>
          </a:xfrm>
          <a:prstGeom prst="star5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67640" y="5805360"/>
            <a:ext cx="1008000" cy="863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836640"/>
            <a:ext cx="1008000" cy="863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867280" y="1052640"/>
            <a:ext cx="2952720" cy="287172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00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403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Jupiter- Jug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 rot="5400000">
            <a:off x="-2434680" y="3236040"/>
            <a:ext cx="6524640" cy="718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Jupite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12000" y="1268280"/>
            <a:ext cx="2616120" cy="244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332000" y="2997360"/>
            <a:ext cx="4319640" cy="3314160"/>
          </a:xfrm>
          <a:prstGeom prst="rect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Jupiter takes 9 hours, 58 minutes, and 30 seconds to make a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The average cloud temperature on Jupiter is -145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º Celsi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re are 16 satellites on Jupi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Jupiter was named after the ruler of Olymp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4581360"/>
            <a:ext cx="1008000" cy="863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19280" y="1268280"/>
            <a:ext cx="1008000" cy="863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56360" y="5661000"/>
            <a:ext cx="1008000" cy="863640"/>
          </a:xfrm>
          <a:prstGeom prst="star5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80000" y="1341360"/>
            <a:ext cx="1008000" cy="863640"/>
          </a:xfrm>
          <a:prstGeom prst="star5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403280" y="260280"/>
            <a:ext cx="4537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66ff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upiter</a:t>
            </a:r>
            <a:endParaRPr b="1" lang="en-US" sz="1800" spc="1" strike="noStrike">
              <a:ln w="1260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66ff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651640" y="2565360"/>
            <a:ext cx="3044520" cy="2288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Saturn- Sandwi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411280" y="189000"/>
            <a:ext cx="44658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00ffff"/>
                </a:solidFill>
                <a:latin typeface="Comic Sans MS"/>
              </a:rPr>
              <a:t>Saturn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00ffff"/>
              </a:solidFill>
              <a:latin typeface="Comic Sans MS"/>
              <a:ea typeface="Comic Sans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940360" y="2708280"/>
            <a:ext cx="2519280" cy="2033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11280" y="3068640"/>
            <a:ext cx="4608360" cy="307656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At night time you can see Saturn's rings glow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Saturn is 1.5 billions kilometres from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re are 18 satellites on Satu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One of the main ones is called Tit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24720" y="5734080"/>
            <a:ext cx="1008000" cy="863640"/>
          </a:xfrm>
          <a:prstGeom prst="star5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404640"/>
            <a:ext cx="1008000" cy="863640"/>
          </a:xfrm>
          <a:prstGeom prst="star5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5157720"/>
            <a:ext cx="1008000" cy="863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451640" y="1052640"/>
            <a:ext cx="1008000" cy="863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867280" y="2492280"/>
            <a:ext cx="2881440" cy="2871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Comic Sans MS"/>
              </a:rPr>
              <a:t>Uranus- 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156360" y="2852640"/>
            <a:ext cx="2206440" cy="2303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2411280" y="404640"/>
            <a:ext cx="439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Kahootz Fatty"/>
              </a:rPr>
              <a:t>Uranu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Kahootz Fatty"/>
              <a:ea typeface="Kahootz Fatty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068640"/>
            <a:ext cx="4608360" cy="307656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AU" sz="1800" spc="-1" strike="noStrike">
                <a:solidFill>
                  <a:srgbClr val="ffffff"/>
                </a:solidFill>
                <a:latin typeface="Comic Sans MS"/>
              </a:rPr>
              <a:t>On Uranus the average surface temperature is -224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re are 15 satellites on Uran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Uranus is made of: 83% Hydrogen, 15% Helium, and 2% Meth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Uranus is a gas pla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940360" y="5734080"/>
            <a:ext cx="1008000" cy="863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36000" y="404640"/>
            <a:ext cx="1008000" cy="863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40720" y="5805360"/>
            <a:ext cx="1008000" cy="863640"/>
          </a:xfrm>
          <a:prstGeom prst="star5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404640"/>
            <a:ext cx="1008000" cy="863640"/>
          </a:xfrm>
          <a:prstGeom prst="star5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796000" y="2349360"/>
            <a:ext cx="2881440" cy="2871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Comic Sans MS"/>
              </a:rPr>
              <a:t>Neptune- naugh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12000" y="2708280"/>
            <a:ext cx="2347920" cy="218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2627280" y="189000"/>
            <a:ext cx="320220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3399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Neptune</a:t>
            </a:r>
            <a:endParaRPr b="1" lang="en-US" sz="4400" spc="1" strike="noStrike">
              <a:ln w="12600">
                <a:solidFill>
                  <a:srgbClr val="3399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2924280"/>
            <a:ext cx="4608360" cy="3768120"/>
          </a:xfrm>
          <a:prstGeom prst="rect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Neptune is 4.5 billions kilometres away from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Neptune's neighbouring planets and Uranus and Plu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Neptune was named after the god of the s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It is 60x the size of ear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It was discovered in 184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51640" y="5734080"/>
            <a:ext cx="1008000" cy="863640"/>
          </a:xfrm>
          <a:prstGeom prst="star5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24720" y="620640"/>
            <a:ext cx="1008000" cy="863640"/>
          </a:xfrm>
          <a:prstGeom prst="star5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24720" y="5661000"/>
            <a:ext cx="1008000" cy="863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404640"/>
            <a:ext cx="1008000" cy="863640"/>
          </a:xfrm>
          <a:prstGeom prst="star5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00:13:50Z</dcterms:created>
  <dc:creator>Admin</dc:creator>
  <dc:description/>
  <dc:language>en-US</dc:language>
  <cp:lastModifiedBy>Admin</cp:lastModifiedBy>
  <dcterms:modified xsi:type="dcterms:W3CDTF">2009-08-18T00:21:34Z</dcterms:modified>
  <cp:revision>5</cp:revision>
  <dc:subject/>
  <dc:title>Order of the planets</dc:title>
</cp:coreProperties>
</file>